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27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13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B7E-337A-4820-8860-1704EF5E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4C9-B853-4D2D-AF28-2CEF0BF7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D8C-DF67-4568-944E-863454D0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7C5-04BC-487E-9E3A-778BF004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003-E896-49D5-B53A-A0678408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2FF-67F2-485B-9EC3-605FB543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9D5-F495-46D2-864E-3C8253F6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5FF-3A4D-4719-BC46-1FF9CB3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9D6-E197-44DC-87E7-2AC99F35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7CD-A3A9-4422-9B2A-14D1E8C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6AA-15A3-4EED-BFEE-7CFE2055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BD5-1326-4466-97C5-76D6FDF4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3C3E-430B-47E9-A265-1AAA4AF74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7647800">
            <a:off x="216720" y="3751560"/>
            <a:ext cx="159516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复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2" name=""/>
          <p:cNvSpPr txBox="1"/>
          <p:nvPr/>
        </p:nvSpPr>
        <p:spPr>
          <a:xfrm rot="19743000">
            <a:off x="1763280" y="2421000"/>
            <a:ext cx="123660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35280" y="2060640"/>
            <a:ext cx="131616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4" name=""/>
          <p:cNvSpPr txBox="1"/>
          <p:nvPr/>
        </p:nvSpPr>
        <p:spPr>
          <a:xfrm rot="1994400">
            <a:off x="5435640" y="2420640"/>
            <a:ext cx="164160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智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5" name=""/>
          <p:cNvSpPr txBox="1"/>
          <p:nvPr/>
        </p:nvSpPr>
        <p:spPr>
          <a:xfrm rot="4227600">
            <a:off x="7079040" y="3656520"/>
            <a:ext cx="161784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76360" y="549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高二（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4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）班主题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63640" y="4149720"/>
            <a:ext cx="54723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与诚信考试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35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629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状元学习方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]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会理性考试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3640" y="2205000"/>
            <a:ext cx="83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2004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年福建省高考文科状元 黄晨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　　小档案：毕业于厦门外国语学校，现在就读于北京大学光华管理学院金融班。高考得分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656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分。讲解了考试应该统筹把握的几个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学会理性考试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谓的“理性考试”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2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要注意题型的分析，做题时想想要考察的是哪个知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2320" y="2060640"/>
            <a:ext cx="6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考前整理错题的同时，也要注意那些不出错的内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要因为注意力的转移而把强项变成力量弱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6600" y="3068640"/>
            <a:ext cx="88344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根据自己平时的学习情况，为自己设定可以达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分数目标，并把这种目标落实到每一种题型。这种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能提高考试的自信心。对于没把握做对的弱项题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妨学会放弃，以节省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9280" y="4869000"/>
            <a:ext cx="55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选择题部分，几道小题加起来的分数就是一道大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你如果前面小题错的多的话，比大题出错还可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做前面就要细心些。一定要先判断自己对每种题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握能力，然后协调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数学：提高准确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数学复习最关键的一点是冲刺阶段要做题并提高准确率。很多人把试卷从头到尾都做完，但是最后发现很多都错了，这样还不如只做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但是保证每一道题都做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：研究做题套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对于语文复习，拿到一套题目以后，自己先做一遍，然后拿着正确答案仔细分析做错的地方，多看正确答案，研究做题套路。在写作文时，设想一下阅卷老师会喜欢什么样的文章，再注意一下错字、病句等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：多背单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英语关键是多背单词。对于写作，最好是把试卷答案拿过来，把范文都背诵得非常流利。实在不行可以先写中文，然后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911240"/>
            <a:ext cx="6300720" cy="4946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60720" y="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0" y="476280"/>
            <a:ext cx="399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狮子与羚羊的沉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360" y="1206360"/>
            <a:ext cx="5651640" cy="5651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静谧的非洲大草原上，夕阳西下，一头狮子在沉思：明天，当太阳升起时，我要奔跑，我必须跑得再快一些以追上更多的羚羊，要不然我就会被饿死 ；此时，一只羚羊也在沉思：明天，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阳升起时，新的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要开始，对手仍然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跑得最快的狮子，我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须要跑得更快，否则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会被狮子吃掉 。于是，几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同时，羚羊和狮子一跃而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迎着朝阳奔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57056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  <a:ea typeface="隶书"/>
              </a:rPr>
              <a:t>　　无论你是狮子，还是羚羊，当太阳升起时，你要做的，就是奔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4560" y="558972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当我们跨过重重障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57720" y="5493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最终一定会到达终点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905280" cy="472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5148360" cy="4363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09000" y="4046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到那时，你才会领略到成功的快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要考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测试你对某门课的掌握程度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测试你的学习技巧和记忆力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3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评估教师的教学质量，了解哪些教得不错、哪些需要加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4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最重要的是，测试你是否诚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6922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积极自我暗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暗示能改变自己的信心。积极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示能提高人的信心，消极暗示能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低人的信心。大家在考试前应尽量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免消极暗示的影响。要根据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情况，运用积极暗示强化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考试前与考试中默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一定能考试成功！”“我有实力”、“我能行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89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8900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考试的命运是掌握在自己手中，它是由大家的心态和学习实力影响和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3059280" cy="3716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增强学习实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心是建立在学习实力的基础上的。只有建立在这个基础上，才能充分调动的积极性，保证考试充分发挥。考试前，查漏补缺，建立知识的体系和网络，抓紧抓好课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掌握考试的要求，来强化自己的学习实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都有助于强化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走路挺胸抬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的姿势与步伐是和人内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验有密切关系的。人在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信心时，挺胸抬头，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路来步伐坚定有力。经常挺胸抬头，走路步伐有力，速度稍快，有助于增强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404640"/>
            <a:ext cx="878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打疲劳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了解，不少考生都在挑灯夜战。相当多的人夜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以后睡觉，搞得筋疲力尽。有些同学上午第二节课就无精打采，甚至趴在桌子上睡觉。疲劳战术使他们陷入心情烦躁的状态之中，从而影响考试的信心。大家要</a:t>
            </a:r>
            <a:r>
              <a:rPr b="1" i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会打效率战，不打时间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节奏有规律地起居与复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精力充沛，有利于增强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4360" y="2349360"/>
            <a:ext cx="8820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楷体_GB2312"/>
              </a:rPr>
              <a:t>经常微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在充满信心时，满面春风，面带微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笑是人充满信心的表现，是人快乐的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现，笑和自信的体验是一致的，是和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自信相互促进，充满信心使人微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微笑使人信心增强。经常微笑，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心就会自然滋长自信的体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20902800">
            <a:off x="650520" y="442440"/>
            <a:ext cx="5164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汉仪哈哈体简"/>
              </a:rPr>
              <a:t>考试目标适当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汉仪哈哈体简"/>
              <a:ea typeface="汉仪哈哈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2060640"/>
            <a:ext cx="896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考试目标适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个同学相对自己而言都有相对优势的学科与相对弱势的学科。要强化优势学科，从而增强自己的信心，并靠它拿高分。弥补弱势学科，采取确实有效的措施小步子前进，一步一步来提高弱势学科的实力，从而强化自己考试的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189000"/>
            <a:ext cx="8497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坚 持 梦 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父亲是马术师，小男孩就从小跟着父亲东奔西跑。在他的印象中，生活就是一个马厩接着一个马厩，一个农场接着一个农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四处奔波，小男孩的求学之路很艰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初中时，老师要全班同学写作文，题目是“长大后的志愿”。那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洋洋洒洒写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他的伟大理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写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大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将拥有自己的牧马农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农场中央建造一栋占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业交上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师却给他打了一个红红的大大的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老师，为什么给我不及格？”他不解的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年纪轻轻的，却整天做不实际的白日梦。你没钱没背景，怎么买牧马农场？怎么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？如果你肯重写一次，写得实际点，我会考虑把你的成绩打高一些的。”老师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333360"/>
            <a:ext cx="864216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男孩回家后征求父亲的意见。父亲说：“儿子，我认为人不该放弃自己的梦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小男孩把这句话记在了心里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后，这个男孩有了几片牧马农场，而且建了好几座占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。这个男孩就是美国著名马术师杰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亚当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000" y="189000"/>
            <a:ext cx="9144000" cy="52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树立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”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他第一次赛车回来向母亲报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辆车参加比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跑了第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输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回答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不认为第一次就跑了第二是很好的成绩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抗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用不着跑在任何人后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严厉地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这句话刻进儿子脑海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后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称霸赛车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为运动史上赢得奖金最多的赛车选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就是理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派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的许多项纪录到今天还保持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189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BankGothic Md BT"/>
                <a:ea typeface="楷体_GB2312"/>
              </a:rPr>
              <a:t>　　为了达到目标，我们应该怎么做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84360" y="1700280"/>
            <a:ext cx="7704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考试定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44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48000" y="47628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BankGothic Md BT"/>
                <a:ea typeface="楷体_GB2312"/>
              </a:rPr>
              <a:t>诚  信  考  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考试中你有以下方式证明你的正直诚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即使没有老师监考，你也知道怎么做才合适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会多少答多少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不要作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74872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作弊的后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伤害了老师和同学，给师生关系和同学关系蒙上了阴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对家长、老师和同学有负罪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改变了在他们心目中的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失去了老师和同学对你的信任─本来我们都是相互信任、充满爱心的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家都不好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后生活本身对你的惩罚要比现在严厉的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.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00cc"/>
                </a:solidFill>
                <a:latin typeface="Arial"/>
              </a:rPr>
              <a:t>亲爱的同学们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你的信誉价值连城，你怎么舍得用一点点考分就把它出卖了？作弊的代价太高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9120" y="373680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请牢记：一个作弊的人是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信用的人，他（她）永远树立不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诚信、伟大的形象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00000" y="981000"/>
            <a:ext cx="7315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在这次期中考试中，将认真准备好每一场考试，遵守考场纪律，不作弊，诚信做人，考出自已的水平，向家长和老师汇报最佳成绩！相信自己！全力以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00440" y="333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让我们共同庄严宣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 rot="21438000">
            <a:off x="1231560" y="1266480"/>
            <a:ext cx="7129440" cy="5589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DFPiPiW5-B5"/>
              </a:rPr>
              <a:t>祝愿同学们期中考出好成绩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DFPiPiW5-B5"/>
              </a:rPr>
              <a:t>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DFPiPiW5-B5"/>
              <a:ea typeface="DFPiPiW5-B5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DFPiPiW5-B5"/>
              </a:rPr>
              <a:t>加油！加油！再加油！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DFPiPiW5-B5"/>
              <a:ea typeface="DFPiPiW5-B5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8920" y="3716280"/>
            <a:ext cx="74898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必将属于高二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(4)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班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343353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没有人告诉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陈楚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14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当火车开入这座陌生的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那是从来就没有见过的霓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我打开离别时你送我的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忽然感到无比 的思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看不见雪的冬天不夜的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我听见有人欢呼有人 在哭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早习惯穿梭充满诱惑 的黑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但却无法忘记 你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告诉你 我很爱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在你日记里哭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告诉你 我很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在意这座城市 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343353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33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不公平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那个人把你的答案照抄了一遍，得了六十分。而你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了五十九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倒霉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仅为了一道一分的题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弊被发现了。就像你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腰去捡一毛钱，却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十块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2920" y="44280"/>
            <a:ext cx="889308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递推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偷看前面的人的考卷时，后面的人一定在偷看你的考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考场气氛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考场气氛永远不会活跃起来，除非老师突然离开一会儿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矛盾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抄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案时，你总想让老师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见你。别人抄答案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总想让老师看见他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莫非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往往相信偷看来的答案是对的，可往往你自己的答案是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1360" y="404640"/>
            <a:ext cx="87217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时间换算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考试前，一秒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十分钟。考试时，十分钟等于一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时间价值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唯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时间的宝贵是在考试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束铃响起的那一刻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战争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老师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了整个战争，却输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场战斗。学生赢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场战斗，却输掉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个战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1208160"/>
            <a:ext cx="8101080" cy="5649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79280" y="0"/>
            <a:ext cx="705672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汉仪橄榄体简"/>
              </a:rPr>
              <a:t>考前复习方法介绍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汉仪橄榄体简"/>
              <a:ea typeface="汉仪橄榄体简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8780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Benguiat Bk BT"/>
                <a:ea typeface="隶书"/>
              </a:rPr>
              <a:t>网络式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97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有的考试还比较细碎、全面，可谓时间紧任务重。面对这种情况，有人采取“网络式”复习法，即采用编、章、节、标题、要点五个层次对教材进行梳理和编织记忆网络。最后做到脱离课本时只看大的编，以编想章，以章想节，以节想标题，以标题想要点。这样做，不仅记得仔细，对跨章节组织论述题的回答也十分有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②提高“回头率”。因为看完一遍之后在脑中几乎不留任何痕迹。为了防止遗忘，就要采用提高“回头率”的方法，即看完一节、一章、一部分之后，再回头扫视一遍，这样知识得到了系统和巩固，效果很好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000" y="189000"/>
            <a:ext cx="90360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①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谓空想法就是不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本回想看过的内容；或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本的大纲填充细节。这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方法同盯着课本死记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相比，所用时间更少，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却更容易找到记忆中的“盲点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回忆难以为继时，翻开课本，那么这一段知识对神经元的刺激非常强烈，因而也就容易刻入脑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②文科中的事实和理论都需要记忆，而对理论的记忆和背诵，没有理解是不可想象的。理解时必须：能“从点到面”：“记重点，析难点”；看书时能“钻进去，跳出来”：“能画出知识结构的树形图在胸中”；最重要的，理解要达到“融会贯通”的程度。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21400" y="9079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空想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19:0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32:49Z</dcterms:modified>
  <cp:revision>1</cp:revision>
  <dc:subject>主题班会课件(分28大类): http://shop62905894.taobao.com</dc:subject>
  <dc:title>主题班会课件(分28大类): http://shop62905894.taobao.com</dc:title>
</cp:coreProperties>
</file>